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432-D140-4F5C-9EAD-90073408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8C5-0237-46C4-B091-9CC12D4C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4CA-31AF-4317-9BF1-43CD7B8F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CFE-69D7-4044-A035-A96C53BB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E23-A10B-443E-9735-0EE0B9CC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DF6-969D-4A70-A198-A35F81D3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6A8-49D3-47B8-95A7-F6220A4B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AD3-4ACF-4147-B4A3-9605D090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63A-6A71-4BC2-A9CB-C04E1986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4E9-674A-4EBF-AA14-8ED8BC85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7AD-E4FE-408B-B47C-3550A0D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914-997B-4820-9517-42A9C37A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7F41-2BD1-46EA-AB65-E52B1909E8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hould society deal with lawbreak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Assessment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I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/Group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le Wor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Law C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/ Contrast Elements of Law Codes: Pros and C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list for Prepar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/Group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Project Is Comple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Rubric – Gr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 Rubric – Gr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 whether your law code would apply to a modern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azzTextExtended"/>
                <a:ea typeface="JazzTextExtended"/>
              </a:rPr>
              <a:t>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MCj02908850000[1]"/>
          <p:cNvPicPr/>
          <p:nvPr/>
        </p:nvPicPr>
        <p:blipFill>
          <a:blip r:embed="rId1"/>
          <a:stretch/>
        </p:blipFill>
        <p:spPr>
          <a:xfrm>
            <a:off x="1447920" y="1450800"/>
            <a:ext cx="5943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urlz MT"/>
              </a:rPr>
              <a:t>Unit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common elements of legal 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es a given legal system affect the people living under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have early legal systems acted as precedents to legal systems toda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urlz MT"/>
              </a:rPr>
              <a:t>Content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hat is The Code of Hammurabi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hat are The Ten Commandment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hat is Legalism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hat are The Twelve Tab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p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Requiremen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You will development a PowerPoint presentation to take a stand on how successful your assigned law system was in dealing with lawbreaker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is PowerPoint will support an argument/debate you will have in cla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2:39:13Z</dcterms:created>
  <dc:creator>Valued Gateway Client</dc:creator>
  <dc:description/>
  <dc:language>en-US</dc:language>
  <cp:lastModifiedBy>Jenny Ann</cp:lastModifiedBy>
  <dcterms:modified xsi:type="dcterms:W3CDTF">2009-10-19T22:25:10Z</dcterms:modified>
  <cp:revision>13</cp:revision>
  <dc:subject/>
  <dc:title>How should society deal with lawbreakers?</dc:title>
</cp:coreProperties>
</file>